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8EF-7224-4A11-AC83-2BB97A48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502-67D0-4A29-870F-554BBA18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62E-D689-47B1-BDF4-A11683A7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01B-2C22-4A22-9C4F-01B8C19F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4A7-1844-489F-B900-FE44190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360-7D17-4FB4-8FB8-151878D2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7AD-7905-4A6D-8D72-5DB2473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B4A-4534-449E-AC3B-B1FBD54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BBC-6ED0-4285-ADC8-DCDA10D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2C4-FD83-4E45-B83A-F7D286D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1A3-BD47-47DB-B414-D3780D9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EA7-080F-448E-9BF8-1BDBA04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4A97-FE19-40EC-8ABA-6892BF1D0E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99072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lf-Wave Ripple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87692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s TWO materials at same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 similar thickness to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 stack under process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alysed by simple spread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3149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914400" y="99072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lf-Wave Ripple Test:-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H 2L 2H 2L 2H 2L 1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930320"/>
            <a:ext cx="5867280" cy="430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5181480"/>
            <a:ext cx="2133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- 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190760" y="2895480"/>
            <a:ext cx="15228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181400"/>
            <a:ext cx="6858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181400"/>
            <a:ext cx="7621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571640" y="38858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962160" y="38858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1447920"/>
            <a:ext cx="6477120" cy="4723920"/>
            <a:chOff x="685800" y="1447920"/>
            <a:chExt cx="6477120" cy="47239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6477120" cy="47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251440" y="4728600"/>
              <a:ext cx="0" cy="70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5680" y="4104000"/>
              <a:ext cx="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710040" y="4191120"/>
            <a:ext cx="20581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O2:   5% t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:   5% thi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595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8280" y="4114800"/>
            <a:ext cx="197460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O2:   5% th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O2:   5% th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05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8862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53480" cy="468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9960" y="2995560"/>
            <a:ext cx="1317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2O5/Si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43600" y="335268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28640" y="5105520"/>
            <a:ext cx="11484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2/Si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4648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1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09480" y="76320"/>
          <a:ext cx="7848720" cy="699840"/>
        </p:xfrm>
        <a:graphic>
          <a:graphicData uri="http://schemas.openxmlformats.org/drawingml/2006/table">
            <a:tbl>
              <a:tblPr/>
              <a:tblGrid>
                <a:gridCol w="1295640"/>
                <a:gridCol w="655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n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m Thickness Monitor Calib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440">
                      <a:solidFill>
                        <a:srgbClr val="ccccff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ccccff"/>
                      </a:solidFill>
                    </a:lnL>
                    <a:lnR w="1440">
                      <a:solidFill>
                        <a:srgbClr val="ccccff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09480" y="6310440"/>
          <a:ext cx="7848720" cy="395280"/>
        </p:xfrm>
        <a:graphic>
          <a:graphicData uri="http://schemas.openxmlformats.org/drawingml/2006/table">
            <a:tbl>
              <a:tblPr/>
              <a:tblGrid>
                <a:gridCol w="2133720"/>
                <a:gridCol w="5715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ww.thinfs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ing Innovation in Thi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14400" y="990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to Calibrate the Tooling Factor (2):  Multi-Laye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28800" y="1417680"/>
          <a:ext cx="541008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17680"/>
                    <a:ext cx="54100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2:51:23Z</dcterms:created>
  <dc:creator>Henry Orr</dc:creator>
  <dc:description/>
  <dc:language>en-US</dc:language>
  <cp:lastModifiedBy>Henry</cp:lastModifiedBy>
  <dcterms:modified xsi:type="dcterms:W3CDTF">2007-02-26T20:36:30Z</dcterms:modified>
  <cp:revision>49</cp:revision>
  <dc:subject/>
  <dc:title>PowerPoint Presentation</dc:title>
</cp:coreProperties>
</file>